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1" marL="236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2" marL="47304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3" marL="7099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4" marL="94608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5" marL="946080">
              <a:spcBef>
                <a:spcPts val="1800"/>
              </a:spcBef>
              <a:buClr>
                <a:srgbClr val="414141"/>
              </a:buClr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6" marL="946080">
              <a:spcBef>
                <a:spcPts val="1800"/>
              </a:spcBef>
              <a:buClr>
                <a:srgbClr val="414141"/>
              </a:buClr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199080" indent="-1990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01400" indent="-1987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642960" indent="-1987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884160" indent="-1987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125360" indent="-1987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125360" indent="-1987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125360" indent="-1987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1" marL="236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2" marL="47304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3" marL="7099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4" marL="94608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5" marL="946080">
              <a:spcBef>
                <a:spcPts val="1800"/>
              </a:spcBef>
              <a:buClr>
                <a:srgbClr val="414141"/>
              </a:buClr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  <a:p>
            <a:pPr lvl="6" marL="946080">
              <a:spcBef>
                <a:spcPts val="1800"/>
              </a:spcBef>
              <a:buClr>
                <a:srgbClr val="414141"/>
              </a:buClr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214560" indent="-2145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33080" indent="-2145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693720" indent="-2145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54000" indent="-2145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214280" indent="-2145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214280" indent="-2145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214280" indent="-2145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857680"/>
            <a:ext cx="104648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69720" y="5130720"/>
            <a:ext cx="10464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817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17748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27360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697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697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697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762120" y="762120"/>
            <a:ext cx="1146816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272880" indent="-272880">
              <a:lnSpc>
                <a:spcPct val="120000"/>
              </a:lnSpc>
              <a:spcBef>
                <a:spcPts val="4601"/>
              </a:spcBef>
              <a:buClr>
                <a:srgbClr val="404140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1" marL="502200" indent="-272880">
              <a:lnSpc>
                <a:spcPct val="120000"/>
              </a:lnSpc>
              <a:spcBef>
                <a:spcPts val="4601"/>
              </a:spcBef>
              <a:buClr>
                <a:srgbClr val="404140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2" marL="775440" indent="-272880">
              <a:lnSpc>
                <a:spcPct val="120000"/>
              </a:lnSpc>
              <a:spcBef>
                <a:spcPts val="4601"/>
              </a:spcBef>
              <a:buClr>
                <a:srgbClr val="404140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3" marL="1048320" indent="-272880">
              <a:lnSpc>
                <a:spcPct val="120000"/>
              </a:lnSpc>
              <a:spcBef>
                <a:spcPts val="4601"/>
              </a:spcBef>
              <a:buClr>
                <a:srgbClr val="404140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4" marL="1321560" indent="-272880">
              <a:lnSpc>
                <a:spcPct val="120000"/>
              </a:lnSpc>
              <a:spcBef>
                <a:spcPts val="4601"/>
              </a:spcBef>
              <a:buClr>
                <a:srgbClr val="404140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5" marL="1321560" indent="-272880">
              <a:lnSpc>
                <a:spcPct val="120000"/>
              </a:lnSpc>
              <a:spcBef>
                <a:spcPts val="46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6" marL="1321560" indent="-272880">
              <a:lnSpc>
                <a:spcPct val="120000"/>
              </a:lnSpc>
              <a:spcBef>
                <a:spcPts val="46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16000" y="1247760"/>
            <a:ext cx="6146640" cy="56437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6383160" y="1251000"/>
            <a:ext cx="6534360" cy="56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here can they be placed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53880" y="2273400"/>
            <a:ext cx="5894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Anywhere that a computer can be placed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708600" y="2189160"/>
            <a:ext cx="5986800" cy="59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hy do I want one?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53880" y="1953720"/>
            <a:ext cx="12295440" cy="58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Phone number follows you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omputer integration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multaneous ring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an be placed almost anywhere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3880" y="466560"/>
            <a:ext cx="122954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Handy phone number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5320" y="2303280"/>
            <a:ext cx="122936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(385) 646-8001 - Auto Attendan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(385) 646-4395 - Teacher Voicemai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(385) 646-4299 - Nortel Call Pilot Voicemai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(385) 646-4366 - Nortel OCS Voicemai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(385) 646-4085 - Auto Transfer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Nortel phone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55320" y="3613320"/>
            <a:ext cx="5892840" cy="404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retarie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Principal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Administrative User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Non Employee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7331040" y="3430440"/>
            <a:ext cx="5059440" cy="46468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55680" y="2139840"/>
            <a:ext cx="12293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WHO WHAT WHEN WHERE WHY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9174240" y="6469200"/>
            <a:ext cx="3235320" cy="2941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9190080" y="3405240"/>
            <a:ext cx="3203640" cy="29415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9234360" y="166680"/>
            <a:ext cx="3114720" cy="3116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8200" y="2668680"/>
            <a:ext cx="8283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Make and receive call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ransfer Calls to ALL 646/888 extension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ransfer Calls to ANY external number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Forward Call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Multiple Line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Voicemail acces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0" name=""/>
          <p:cNvSpPr/>
          <p:nvPr/>
        </p:nvSpPr>
        <p:spPr>
          <a:xfrm>
            <a:off x="355680" y="254160"/>
            <a:ext cx="8348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WHAT CAN THEY DO?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hen CAN THEY BE USED?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75920" y="2319120"/>
            <a:ext cx="122936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Nortel 11c must have power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chool Router must have power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chool must have power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chool Router must have Internet connection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rvers in Data Center must have connection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here can they be placed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3880" y="2273400"/>
            <a:ext cx="5894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230400" indent="-230400">
              <a:lnSpc>
                <a:spcPct val="100000"/>
              </a:lnSpc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ill Sans Light"/>
              </a:rPr>
              <a:t>Anywhere that there is an existing phone drop</a:t>
            </a:r>
            <a:endParaRPr b="0" lang="en-US" sz="3700" spc="-1" strike="noStrike">
              <a:solidFill>
                <a:srgbClr val="414141"/>
              </a:solidFill>
              <a:latin typeface="Gill Sans Light"/>
            </a:endParaRPr>
          </a:p>
          <a:p>
            <a:pPr marL="230400" indent="-230400">
              <a:lnSpc>
                <a:spcPct val="100000"/>
              </a:lnSpc>
              <a:spcBef>
                <a:spcPts val="3713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ill Sans Light"/>
              </a:rPr>
              <a:t>If the MDF/IDF has telecom pass through port then can be placed on a network drop</a:t>
            </a:r>
            <a:endParaRPr b="0" lang="en-US" sz="3700" spc="-1" strike="noStrike">
              <a:solidFill>
                <a:srgbClr val="414141"/>
              </a:solidFill>
              <a:latin typeface="Gill Sans Light"/>
            </a:endParaRPr>
          </a:p>
          <a:p>
            <a:pPr marL="230400" indent="-230400">
              <a:lnSpc>
                <a:spcPct val="100000"/>
              </a:lnSpc>
              <a:spcBef>
                <a:spcPts val="3713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ill Sans Light"/>
              </a:rPr>
              <a:t>No extra drops in Relos </a:t>
            </a:r>
            <a:endParaRPr b="0" lang="en-US" sz="3700" spc="-1" strike="noStrike">
              <a:solidFill>
                <a:srgbClr val="414141"/>
              </a:solidFill>
              <a:latin typeface="Gill Sans Light"/>
            </a:endParaRPr>
          </a:p>
          <a:p>
            <a:pPr marL="230400" indent="-230400">
              <a:lnSpc>
                <a:spcPct val="100000"/>
              </a:lnSpc>
              <a:spcBef>
                <a:spcPts val="3713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ill Sans Light"/>
              </a:rPr>
              <a:t>No new drops into classrooms</a:t>
            </a:r>
            <a:endParaRPr b="0" lang="en-US" sz="37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 rot="16200000">
            <a:off x="6446520" y="2955960"/>
            <a:ext cx="6097680" cy="51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hy do I want one?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3880" y="1953720"/>
            <a:ext cx="12295440" cy="58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Always on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Multiple line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Not integrated with computer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Polycom phone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55320" y="3613320"/>
            <a:ext cx="5892840" cy="404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eacher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Admin Users that aren't stationary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Part tIme employees at Principal's reques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rcRect l="2982" t="0" r="2982" b="0"/>
          <a:stretch/>
        </p:blipFill>
        <p:spPr>
          <a:xfrm>
            <a:off x="7331040" y="3430440"/>
            <a:ext cx="5059440" cy="46468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55680" y="2139840"/>
            <a:ext cx="12293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WHO WHAT WHEN WHERE WHY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8200" y="2668680"/>
            <a:ext cx="3537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Make and receive call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ransfer Calls to ANY Number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Forward Call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Simultaneous Ring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mputer integration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Follow a user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Voicemail acces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"/>
          <p:cNvSpPr/>
          <p:nvPr/>
        </p:nvSpPr>
        <p:spPr>
          <a:xfrm>
            <a:off x="355680" y="254160"/>
            <a:ext cx="39020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WHAT CAN THEY DO?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290840" y="620640"/>
            <a:ext cx="8649000" cy="771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hen CAN THEY BE USED?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5920" y="2319120"/>
            <a:ext cx="122936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User must be logged on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chool Router must have power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chool must have power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chool Router must have Internet connection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rvers in Data Center must have connection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